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523520" y="254160"/>
            <a:ext cx="10464840" cy="108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523520" y="5881320"/>
            <a:ext cx="104648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85720" y="273024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5235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85720" y="5881320"/>
            <a:ext cx="5106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196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600400" y="273024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52352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506196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600400" y="5881320"/>
            <a:ext cx="33696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3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22640"/>
            <a:ext cx="10464840" cy="2603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4952880"/>
            <a:ext cx="10464840" cy="1244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26000"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68040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11116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542960" indent="-421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97388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2405160" indent="-421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2405160" indent="-421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026560" y="2730240"/>
            <a:ext cx="396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770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77940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081440" indent="-295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38384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685880" indent="-295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685880" indent="-29556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3520" y="273024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3399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3399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8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6527520"/>
            <a:ext cx="10464840" cy="2222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235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66708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1" marL="107640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2" marL="1485360" indent="-42228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3" marL="189396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4" marL="2302920" indent="-421920">
              <a:spcBef>
                <a:spcPts val="5000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5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lvl="6" marL="2302920" indent="-421920">
              <a:spcBef>
                <a:spcPts val="5000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t">
            <a:normAutofit fontScale="80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1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3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4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5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  <a:p>
            <a:pPr lvl="6" algn="ctr">
              <a:lnSpc>
                <a:spcPct val="80000"/>
              </a:lnSpc>
              <a:spcBef>
                <a:spcPts val="601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254160"/>
            <a:ext cx="10464840" cy="2349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72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523880" y="2730240"/>
            <a:ext cx="50421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55404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1" marL="905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2" marL="1256760" indent="-34380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3" marL="160740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4" marL="1958760" indent="-34344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5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  <a:p>
            <a:pPr lvl="6" marL="1958760" indent="-34344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1160" y="151920"/>
            <a:ext cx="12789000" cy="1257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merican Typewriter"/>
              </a:rPr>
              <a:t>Information Literacy</a:t>
            </a:r>
            <a:br>
              <a:rPr sz="3600"/>
            </a:br>
            <a:r>
              <a:rPr b="1" lang="en-US" sz="4800" spc="-1" strike="noStrike">
                <a:solidFill>
                  <a:srgbClr val="2f2b20"/>
                </a:solidFill>
                <a:latin typeface="American Typewriter"/>
              </a:rPr>
              <a:t>Action Plan</a:t>
            </a:r>
            <a:endParaRPr b="0" lang="en-US" sz="4800" spc="-1" strike="noStrike">
              <a:solidFill>
                <a:srgbClr val="2f2b20"/>
              </a:solidFill>
              <a:latin typeface="American Typewriter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451" name=""/>
          <p:cNvSpPr/>
          <p:nvPr/>
        </p:nvSpPr>
        <p:spPr>
          <a:xfrm>
            <a:off x="11507400" y="261720"/>
            <a:ext cx="1100880" cy="365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Robin Predny</a:t>
            </a:r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TCH 454 Bohne</a:t>
            </a:r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2043000" y="5738760"/>
            <a:ext cx="4876920" cy="27320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08080" y="1657440"/>
            <a:ext cx="12585600" cy="781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Need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y Do We Need Information Literacy? Why Do We Need An Action Plan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         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Information Overload    *Changing Classrooms    *Changing Workplace    *Uninformed Populace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Definition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at Is Information Literacy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lvl="3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“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A set of abilities requiring individuals to recognize when information is needed and have the ability to locate, evaluate, and use effectively the needed information.” American Library Association, 1989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lvl="3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Students mastering information: they know they need it, they know how to find it, they know how to use it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tandards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at Is The Connection Between Common Core Standards and Information Literacy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ommon Core addresses many information literacy skills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Research to Build and Present Knowledge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Vocabulary Acquisition and Use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raft and Structure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Integration of Knowledge and Idea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Key Ideas and Detail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Text Types and Purpose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Production and Distribution of Writing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Making Inferences and Justifying Conclusion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Range of Writing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omprehension and Collaboration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onventions of Standard English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Interpreting Function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Using Probability to Make Decisions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Range of Reading and Level of Text Complexity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Knowledge of Language</a:t>
            </a:r>
            <a:endParaRPr b="0" lang="en-US" sz="14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291920" y="1384200"/>
            <a:ext cx="4406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2f2b20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174840" y="-38520"/>
            <a:ext cx="13004640" cy="1003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4e2d"/>
                </a:solidFill>
                <a:latin typeface="American Typewriter"/>
              </a:rPr>
              <a:t>Implementation</a:t>
            </a:r>
            <a:r>
              <a:rPr b="0" lang="en-US" sz="4800" spc="-1" strike="noStrike">
                <a:solidFill>
                  <a:srgbClr val="5b4e2d"/>
                </a:solidFill>
                <a:latin typeface="American Typewriter"/>
              </a:rPr>
              <a:t>:</a:t>
            </a:r>
            <a:endParaRPr b="0" lang="en-US" sz="48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97760" y="5076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Audience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arents in the School District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Medium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Bi-monthly Parent Newsletters</a:t>
            </a:r>
            <a:endParaRPr b="0" lang="en-US" sz="18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287280" y="1004760"/>
            <a:ext cx="6072120" cy="37972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5954760" y="1003320"/>
            <a:ext cx="6072120" cy="379728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-1219320" y="5165640"/>
            <a:ext cx="6070680" cy="3797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3605040" y="5168880"/>
            <a:ext cx="6072480" cy="3797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6"/>
          <a:stretch/>
        </p:blipFill>
        <p:spPr>
          <a:xfrm>
            <a:off x="8269200" y="5172120"/>
            <a:ext cx="60706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11360" y="438120"/>
            <a:ext cx="12179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Steps for Implementation:</a:t>
            </a:r>
            <a:endParaRPr b="0" lang="en-US" sz="3600" spc="-1" strike="noStrike">
              <a:solidFill>
                <a:srgbClr val="2f2b20"/>
              </a:solidFill>
              <a:latin typeface="Palatino"/>
            </a:endParaRPr>
          </a:p>
        </p:txBody>
      </p:sp>
      <p:sp>
        <p:nvSpPr>
          <p:cNvPr id="463" name=""/>
          <p:cNvSpPr/>
          <p:nvPr/>
        </p:nvSpPr>
        <p:spPr>
          <a:xfrm>
            <a:off x="704880" y="1092240"/>
            <a:ext cx="12179160" cy="62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rior to the Plan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at Needs to Be Done Prior To The Plan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Newsletters designed and written    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ontent approved by Superintendent and Principals    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Content reviewed by select group of parents    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Potential Roadblocks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at Are Potential Roadblocks to Implementation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lvl="3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Superintendent and Principals disapprove or feel Action Plan is not a good plan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lvl="3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Parents don’t read the newsletter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lvl="3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Parents have further questions or issues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Key Players: </a:t>
            </a: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Who Are the Key Players in Implementation?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Library Media Specialist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Superintendent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Principals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School office staff members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merican Typewriter"/>
                <a:ea typeface="American Typewriter"/>
              </a:rPr>
              <a:t>*Parents and students</a:t>
            </a: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Palatino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606680" y="5416560"/>
            <a:ext cx="5803920" cy="414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